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881-71D9-4DB7-B6A5-F520C9C9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513-41F2-4203-A2FF-A7DDD4AB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0D4-7103-45D8-BF64-5504937B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82D-6520-4ABF-8EE0-FC546861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CDF-6FFF-43B0-9CDA-46D72CF6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F9C-65C1-4E06-AA54-B69A46EE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C16-3028-4A27-9F9E-B244D383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2C4-E349-4BED-BCE2-7844E465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3D0-C5B6-467C-B4F5-E6DB263C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794-52C0-42B8-8AA8-00BC745B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A5F-7E1A-4A71-930B-03DD45A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D09-4827-4076-B745-5C20A1A8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A793-0B0E-42BC-81FB-BB7E8FC7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80160" y="3048120"/>
            <a:ext cx="1257480" cy="1619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6979" t="17956" r="11628" b="10219"/>
          <a:stretch/>
        </p:blipFill>
        <p:spPr>
          <a:xfrm>
            <a:off x="3390840" y="4952880"/>
            <a:ext cx="2362320" cy="161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33720" y="762120"/>
            <a:ext cx="1380960" cy="97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8814" r="6656" b="2947"/>
          <a:stretch/>
        </p:blipFill>
        <p:spPr>
          <a:xfrm>
            <a:off x="762120" y="213372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63720" y="2666880"/>
            <a:ext cx="1238040" cy="743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146320" y="1752480"/>
            <a:ext cx="885960" cy="133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62120" y="762120"/>
            <a:ext cx="1380960" cy="1380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324480" y="1905120"/>
            <a:ext cx="1619280" cy="117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324480" y="685800"/>
            <a:ext cx="1619280" cy="125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952880" y="685800"/>
            <a:ext cx="1381320" cy="1380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0800000">
            <a:off x="3047760" y="2514240"/>
            <a:ext cx="2895480" cy="22096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98800" y="2844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00:19:48Z</dcterms:created>
  <dc:creator>Administrator</dc:creator>
  <dc:description/>
  <dc:language>en-US</dc:language>
  <cp:lastModifiedBy>Administrator</cp:lastModifiedBy>
  <dcterms:modified xsi:type="dcterms:W3CDTF">2008-05-03T01:45:09Z</dcterms:modified>
  <cp:revision>2</cp:revision>
  <dc:subject/>
  <dc:title>Slide 1</dc:title>
</cp:coreProperties>
</file>